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8AB-B1B9-43DF-ABFC-31B601C8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102-0FB4-4B0C-BE9F-1921FB87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284C-14E6-41B7-8255-63056C62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DEF-6581-4ED6-BEB4-1AE28E22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87B-2D02-491D-8F51-C50F327D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C18-291D-4687-9B74-5396D80A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E95-EF6E-4A82-8A08-FF5BEB8F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C6B-443A-4AF9-A6B6-7FF7D8FC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B73-6239-4BF6-8A85-B2D40CA5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900-E950-44C2-9634-9D6D5BD9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3DE-D3AC-4DB1-B441-FC606AB1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202-A21B-4F75-BCB5-9D6486C8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6658-C1C9-4AC0-8C53-4793D1C57C7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883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06560"/>
            <a:ext cx="797400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5950080" y="2266920"/>
            <a:ext cx="3120840" cy="8542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490680" y="3662280"/>
            <a:ext cx="2852640" cy="78732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938160" y="2857680"/>
            <a:ext cx="2035080" cy="7855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622440" y="1908000"/>
            <a:ext cx="2273040" cy="9684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868400" y="4468680"/>
            <a:ext cx="1774800" cy="85248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20" descr=""/>
          <p:cNvPicPr/>
          <p:nvPr/>
        </p:nvPicPr>
        <p:blipFill>
          <a:blip r:embed="rId8"/>
          <a:stretch/>
        </p:blipFill>
        <p:spPr>
          <a:xfrm>
            <a:off x="5967360" y="3108240"/>
            <a:ext cx="3084480" cy="10130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2752560" y="1908000"/>
            <a:ext cx="3297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3413160" y="2709720"/>
            <a:ext cx="329724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2"/>
          <a:stretch/>
        </p:blipFill>
        <p:spPr>
          <a:xfrm>
            <a:off x="833400" y="5645160"/>
            <a:ext cx="2975040" cy="67644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3"/>
          <a:stretch/>
        </p:blipFill>
        <p:spPr>
          <a:xfrm>
            <a:off x="2158920" y="3736800"/>
            <a:ext cx="2846520" cy="4636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1798560" y="2803680"/>
            <a:ext cx="3348000" cy="9331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812880" y="4608360"/>
            <a:ext cx="5400720" cy="9385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1314360" y="1197000"/>
            <a:ext cx="2597400" cy="68256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4" descr=""/>
          <p:cNvPicPr/>
          <p:nvPr/>
        </p:nvPicPr>
        <p:blipFill>
          <a:blip r:embed="rId7"/>
          <a:stretch/>
        </p:blipFill>
        <p:spPr>
          <a:xfrm>
            <a:off x="6127920" y="2147760"/>
            <a:ext cx="2609640" cy="5778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3268800" y="5388120"/>
            <a:ext cx="4535280" cy="9334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9"/>
          <a:stretch/>
        </p:blipFill>
        <p:spPr>
          <a:xfrm>
            <a:off x="3240000" y="957240"/>
            <a:ext cx="3292560" cy="9320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0"/>
          <a:stretch/>
        </p:blipFill>
        <p:spPr>
          <a:xfrm>
            <a:off x="843120" y="1844640"/>
            <a:ext cx="3833640" cy="100476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3" descr=""/>
          <p:cNvPicPr/>
          <p:nvPr/>
        </p:nvPicPr>
        <p:blipFill>
          <a:blip r:embed="rId11"/>
          <a:stretch/>
        </p:blipFill>
        <p:spPr>
          <a:xfrm>
            <a:off x="5435640" y="4162320"/>
            <a:ext cx="3328920" cy="5796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12"/>
          <a:stretch/>
        </p:blipFill>
        <p:spPr>
          <a:xfrm>
            <a:off x="1130400" y="4210200"/>
            <a:ext cx="2852640" cy="46332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6" descr=""/>
          <p:cNvPicPr/>
          <p:nvPr/>
        </p:nvPicPr>
        <p:blipFill>
          <a:blip r:embed="rId13"/>
          <a:stretch/>
        </p:blipFill>
        <p:spPr>
          <a:xfrm>
            <a:off x="6141960" y="4883040"/>
            <a:ext cx="26100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extBox 4" descr=""/>
          <p:cNvPicPr/>
          <p:nvPr/>
        </p:nvPicPr>
        <p:blipFill>
          <a:blip r:embed="rId2"/>
          <a:stretch/>
        </p:blipFill>
        <p:spPr>
          <a:xfrm>
            <a:off x="5761080" y="1301760"/>
            <a:ext cx="3120840" cy="85896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3"/>
          <a:stretch/>
        </p:blipFill>
        <p:spPr>
          <a:xfrm>
            <a:off x="698400" y="995400"/>
            <a:ext cx="4681800" cy="12510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4"/>
          <a:stretch/>
        </p:blipFill>
        <p:spPr>
          <a:xfrm>
            <a:off x="4214880" y="2478240"/>
            <a:ext cx="3298680" cy="147456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5"/>
          <a:stretch/>
        </p:blipFill>
        <p:spPr>
          <a:xfrm>
            <a:off x="685800" y="2992320"/>
            <a:ext cx="397512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6"/>
          <a:stretch/>
        </p:blipFill>
        <p:spPr>
          <a:xfrm>
            <a:off x="689040" y="4456080"/>
            <a:ext cx="3975120" cy="6778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7"/>
          <a:stretch/>
        </p:blipFill>
        <p:spPr>
          <a:xfrm>
            <a:off x="4229280" y="3949560"/>
            <a:ext cx="32922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06:42Z</dcterms:modified>
  <cp:revision>96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